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626-252D-4B08-A696-7957B076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154-9707-4987-A409-CDE4F11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8C6-09C8-4933-B122-A9E0DFFA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C73-B056-4F6B-A834-D545DAB5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DE4-571F-4F0A-B653-43DB5C9F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D905-FCF4-4B5A-B93D-56F5037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622-ADE9-4562-8E5E-8DDE1B96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FB69-2008-4825-90B9-26541EE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C2B-6462-4BC3-ADA4-6F8B0E6A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3294-95DE-47DE-B639-7780F9AF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5016-A3DE-4ED0-B66E-59E0936C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896-9441-4826-863E-46C048AD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B802-8C71-4CDB-93C7-433A7D87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74F7-0CFB-466F-91E6-46B347F8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449D-477A-429D-BCF1-74349E8A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2350-41DF-47E6-925E-F69825A6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FB0A-CFBE-4FB6-AB97-71D92A1C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9CEF-6E81-4D4B-A79E-01A895CD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93C8-9890-455C-9C17-54F6EFE4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78BC-AF3C-4AA1-85F0-CCF35961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A22C-C9CA-4232-893D-5E52C853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B9BC-8512-4AD3-AE36-289F37C8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CCC-B5E2-4FA9-A317-5B650B96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BB31-7AB7-462D-9BFA-817325A6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B176-8281-4F5D-AE28-3A9D1EB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9AEE-7A9A-460E-8DB0-EE82A29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F96D-74B4-4BCF-9C8C-A8A3E56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FB78-D819-4CC2-928A-9B84A8E3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3622-357E-4F31-ADF5-6F10A85C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7B8A-5C39-4D0B-B229-12B3A554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DC4E-0669-47C1-AA39-DB737C2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C8DA-1A86-47A5-B398-75178F5A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2EE1-1D8C-43D3-B976-B373DAC1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95A-C5A1-43BA-8867-999F97A0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7049-8D19-44B2-8D57-C607FA6D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9CFA-551F-4BE6-93B1-16802CAF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D881-FBA6-4752-8971-75B836E3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F14A-D379-4747-BC1C-5D9B145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8A9A-9E4B-4F11-A796-642213C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5A42-1FB9-44D5-8E04-8D565B4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1820A-398E-4B6C-8FEC-059D81A3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A4411-2A03-4890-A650-4ACA6BA2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6F99-AB35-4071-ACF6-C6BEAEDE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FEA8-3C64-4547-B195-B48943F7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793-3FC9-4331-B1C7-410A4B6A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2931-DC54-4333-BB67-5DF9456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3042-BD73-43AF-85D2-96FEDE0A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43E3C-3F4C-41CF-860C-5FB4F0BA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5DA37-F4D9-41BC-B6E9-6F05C115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3BC7-B341-43D4-AA25-9E10BCA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31F0-60C8-443B-B17C-E84BC1A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FAF6-C21A-4EF7-A37A-127EBB5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265C-77ED-4AD7-9574-9628EDB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16C1-1E2D-448A-B6E5-4749ADA9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9B07-EFAB-486D-8900-7EBB92CB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502-3E80-4DBD-8824-31A2D99C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E18A7-8778-40F7-A545-5CB2E647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19D0E-64B8-402F-8EDA-4D68917E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FD10-1AF4-49A5-B874-279C5746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8058-797A-4D7B-B38A-FA795CD8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C2EF7-AD62-417A-A069-7DAA6744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A2AE-2470-4257-B155-456E248E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A7A00-8931-48E8-8213-CC76ECBC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50C52-D822-499E-B357-3329CB6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8058C-4B5F-499E-8DF2-08D479D3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A5097-BC66-4F9D-983E-56AA749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264-C0B0-4406-93C8-9692BCF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6BBC-E903-4ACB-AE69-B87D78A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A63E-90BC-49F9-A2A6-728BB447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89975-920D-4D39-A289-C0AD3420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311-5F4C-47A6-AD42-7073A956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7C0-4797-4A0B-AA74-1000F26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F08F-988A-4257-9BFE-106DEB720C0E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EFF2-57DF-462D-B181-40B0E21CA32E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7DF-B520-43AE-84D0-833F5DC617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3D8F-A5E8-4FE9-8B20-14CAC19BE1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7C74-0678-4B15-B602-68655155F4F7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1DD2-CFD2-45D8-8FB0-AABCF9E4DFBF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ec.europa.eu/regional_policy/sources/cooperate/crossborder/cbc_health/cbc_health_fr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ec.europa.eu/regional_policy/sources/cooperate/crossborder/cbc_health/cbc_health_fr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66360" y="1914480"/>
            <a:ext cx="10744200" cy="337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0" rIns="0" tIns="19800" bIns="0" anchor="t">
            <a:noAutofit/>
          </a:bodyPr>
          <a:p>
            <a:pPr marL="157788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LA COOPERATION SANITAIRE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 TRANSFRONTALIÈRE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object 3"/>
          <p:cNvSpPr/>
          <p:nvPr/>
        </p:nvSpPr>
        <p:spPr>
          <a:xfrm>
            <a:off x="685800" y="4943520"/>
            <a:ext cx="10744200" cy="145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Henri Lewalle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METZ 28 AVRIL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ec.europa.eu/regional_policy/sources/cooperate/crossborder/cbc_health/cbc_health_fr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Image 4" descr=""/>
          <p:cNvPicPr/>
          <p:nvPr/>
        </p:nvPicPr>
        <p:blipFill>
          <a:blip r:embed="rId2"/>
          <a:stretch/>
        </p:blipFill>
        <p:spPr>
          <a:xfrm>
            <a:off x="3803760" y="0"/>
            <a:ext cx="4495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ACTION : RENFORCEMENT COOPERATION PED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ESPACE FRONTALIER PROV LUX BE – NORD MEURTHE &amp; MOS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opération transfrontalière sous la forme ZOAST entre CSL Arlon et Mont-Saint-Mar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vention Mont-Saint-Martin et CHEM GDL radiothérap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vention CSL Arlon et COLPACH en matière de réadaptation (COV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Objectif : renforcement de la coopération entre les différentes structures de soins de ce territoire transfrontalier en développant la coopération sanitaire et interhospitalière sur le versant luxembourgeo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4D37-D918-45F6-BCE8-439596C536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 Light"/>
              </a:rPr>
              <a:t>AKTION: VERSTÄRKUNG DER ZUSAMMENARBEIT IM EUROPÄISCHEN ENTWICKLUNGSPOL (PED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RENZRAUM PROV LUX BE – NORD MEURTHE &amp; MOS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renzüberschreitende Zusammenarbeit in Form von ZOAST zwischen CSL Arlon und Mont-Saint-Mar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einbarung Strahlentherapie zwischen Mont-Saint-Martin und C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einbarung Rehabilitation (COVID) zwischen CSL Arlon und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iel: Verstärkung der Zusammenarbeit zwischen den verschiedenen Gesundheitseinrichtungen dieses Grenzgebietes durch einen Ausbau der Kooperation im Gesundheitswesen und zwischen den Krankenhäusern im luxemburgischen Teilgeb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BA61-01E9-4CDB-A469-9C48B78470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Projet de coopération socio-sanitaire dans l’espace frontalier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                 belgo-franco-luxembourgeoi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7720" y="2003400"/>
            <a:ext cx="2832120" cy="9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Situation géograp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3" descr=""/>
          <p:cNvPicPr/>
          <p:nvPr/>
        </p:nvPicPr>
        <p:blipFill>
          <a:blip r:embed="rId1"/>
          <a:stretch/>
        </p:blipFill>
        <p:spPr>
          <a:xfrm>
            <a:off x="4915080" y="1717560"/>
            <a:ext cx="6765840" cy="4946760"/>
          </a:xfrm>
          <a:prstGeom prst="rect">
            <a:avLst/>
          </a:prstGeom>
          <a:ln w="0">
            <a:noFill/>
          </a:ln>
        </p:spPr>
      </p:pic>
      <p:sp>
        <p:nvSpPr>
          <p:cNvPr id="294" name="ZoneTexte 4"/>
          <p:cNvSpPr/>
          <p:nvPr/>
        </p:nvSpPr>
        <p:spPr>
          <a:xfrm>
            <a:off x="838080" y="366552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luxembourgeois : les cantons d’Esch-sur-Alzette, Capellen et Red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français : les cantons de Mont-Saint-Martin, Longwy et Villeru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belge : les arrondissements administratifs d’Arlon et Vir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C59-B1E3-4CCB-8984-A64A78C21C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 Light"/>
              </a:rPr>
              <a:t>Kooperationsprojekt im Sozial- und Gesundheitsbereich im Grenzgebiet zwischen Belgien, Frankreich und Luxemburg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37720" y="2003400"/>
            <a:ext cx="2832120" cy="9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44546a"/>
                </a:solidFill>
                <a:latin typeface="Calibri"/>
              </a:rPr>
              <a:t>Geographische L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Image 3" descr=""/>
          <p:cNvPicPr/>
          <p:nvPr/>
        </p:nvPicPr>
        <p:blipFill>
          <a:blip r:embed="rId1"/>
          <a:stretch/>
        </p:blipFill>
        <p:spPr>
          <a:xfrm>
            <a:off x="4915080" y="1717560"/>
            <a:ext cx="6765840" cy="4946760"/>
          </a:xfrm>
          <a:prstGeom prst="rect">
            <a:avLst/>
          </a:prstGeom>
          <a:ln w="0">
            <a:noFill/>
          </a:ln>
        </p:spPr>
      </p:pic>
      <p:sp>
        <p:nvSpPr>
          <p:cNvPr id="299" name="ZoneTexte 4"/>
          <p:cNvSpPr/>
          <p:nvPr/>
        </p:nvSpPr>
        <p:spPr>
          <a:xfrm>
            <a:off x="838080" y="366552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luxemburgischen Teilgebiet: Kanton Esch-sur-Alzette, Capellen und Red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französischen Teilgebiet: Kanton Mont-Saint-Martin, Longwy und Villeru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belgischen Teilgebiet: Verwaltungsbezirke Arlon und Vir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0BF-53C1-48A7-838B-61DC4AB241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754200" y="950400"/>
            <a:ext cx="716256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L’offre de so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Volume et densité de médecins généralis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Hôpitaux de court séj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88DF-A9C4-4F65-B655-B452CF239D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2120" y="4462560"/>
          <a:ext cx="5316480" cy="1971720"/>
        </p:xfrm>
        <a:graphic>
          <a:graphicData uri="http://schemas.openxmlformats.org/drawingml/2006/table">
            <a:tbl>
              <a:tblPr/>
              <a:tblGrid>
                <a:gridCol w="2328840"/>
                <a:gridCol w="1093680"/>
                <a:gridCol w="941400"/>
                <a:gridCol w="952560"/>
              </a:tblGrid>
              <a:tr h="7437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bre de lits aig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bre d’habi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 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h-sur-Alzet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tons luxembourge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-Duché de Luxembo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3 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8278920" y="2408400"/>
          <a:ext cx="3074760" cy="2054160"/>
        </p:xfrm>
        <a:graphic>
          <a:graphicData uri="http://schemas.openxmlformats.org/drawingml/2006/table">
            <a:tbl>
              <a:tblPr/>
              <a:tblGrid>
                <a:gridCol w="1593720"/>
                <a:gridCol w="657360"/>
                <a:gridCol w="823680"/>
              </a:tblGrid>
              <a:tr h="50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ng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2868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-Saint-Mar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eru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tons franç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 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456240" y="4908600"/>
          <a:ext cx="3645000" cy="1611360"/>
        </p:xfrm>
        <a:graphic>
          <a:graphicData uri="http://schemas.openxmlformats.org/drawingml/2006/table">
            <a:tbl>
              <a:tblPr/>
              <a:tblGrid>
                <a:gridCol w="2133720"/>
                <a:gridCol w="674640"/>
                <a:gridCol w="836640"/>
              </a:tblGrid>
              <a:tr h="490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r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rondissements bel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811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lo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4200" y="950400"/>
            <a:ext cx="716256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44546a"/>
                </a:solidFill>
                <a:latin typeface="Calibri"/>
              </a:rPr>
              <a:t>Versorgungsangeb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olumen und Dichte bei Allgemeinärz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rzzeitpflege-Krankenhä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D2FC-BE9B-4B18-AD00-E211E6EE86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92120" y="4462560"/>
          <a:ext cx="5316480" cy="1971720"/>
        </p:xfrm>
        <a:graphic>
          <a:graphicData uri="http://schemas.openxmlformats.org/drawingml/2006/table">
            <a:tbl>
              <a:tblPr/>
              <a:tblGrid>
                <a:gridCol w="2328840"/>
                <a:gridCol w="1093680"/>
                <a:gridCol w="941400"/>
                <a:gridCol w="952560"/>
              </a:tblGrid>
              <a:tr h="7437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kutbet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inwoh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 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h-sur-Alzet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xemburgische Kan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552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ßherzogtum Luxemb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3 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8278920" y="2408400"/>
          <a:ext cx="3074760" cy="2238120"/>
        </p:xfrm>
        <a:graphic>
          <a:graphicData uri="http://schemas.openxmlformats.org/drawingml/2006/table">
            <a:tbl>
              <a:tblPr/>
              <a:tblGrid>
                <a:gridCol w="1593720"/>
                <a:gridCol w="657360"/>
                <a:gridCol w="823680"/>
              </a:tblGrid>
              <a:tr h="50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ät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ng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2868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-Saint-Mar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eru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4903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anzösische Kan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 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456240" y="4908600"/>
          <a:ext cx="3645000" cy="1611360"/>
        </p:xfrm>
        <a:graphic>
          <a:graphicData uri="http://schemas.openxmlformats.org/drawingml/2006/table">
            <a:tbl>
              <a:tblPr/>
              <a:tblGrid>
                <a:gridCol w="2133720"/>
                <a:gridCol w="674640"/>
                <a:gridCol w="836640"/>
              </a:tblGrid>
              <a:tr h="490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ät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r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lgische Bezi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811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lon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1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Les établissements formant l’offre hospitalière du projet de   coopération sanitaire belgo-franco-luxembourgeoi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ZoneTexte 4"/>
          <p:cNvSpPr/>
          <p:nvPr/>
        </p:nvSpPr>
        <p:spPr>
          <a:xfrm>
            <a:off x="450720" y="2158920"/>
            <a:ext cx="50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Hospitalier Emile Mayrisch (C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Hôpital de Mont-Saint-Martin Groupe SOS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SL Vivalia Ar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de Réhabilitation du Château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Espace réservé du contenu 2" descr=""/>
          <p:cNvPicPr/>
          <p:nvPr/>
        </p:nvPicPr>
        <p:blipFill>
          <a:blip r:embed="rId1"/>
          <a:stretch/>
        </p:blipFill>
        <p:spPr>
          <a:xfrm>
            <a:off x="6095880" y="1773360"/>
            <a:ext cx="5502240" cy="4692600"/>
          </a:xfrm>
          <a:prstGeom prst="rect">
            <a:avLst/>
          </a:prstGeom>
          <a:ln w="0">
            <a:noFill/>
          </a:ln>
        </p:spPr>
      </p:pic>
      <p:sp>
        <p:nvSpPr>
          <p:cNvPr id="31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646-4024-407B-B34C-77DCE1F7DE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1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 Light"/>
              </a:rPr>
              <a:t>Folgende Einrichtungen bilden das Krankenhausangebot des belgisch-französisch-luxemburgischen Kooperationsprojekts im Gesundheitswese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ZoneTexte 4"/>
          <p:cNvSpPr/>
          <p:nvPr/>
        </p:nvSpPr>
        <p:spPr>
          <a:xfrm>
            <a:off x="450720" y="2158920"/>
            <a:ext cx="50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Hospitalier Emile Mayrisch (C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Hôpital de Mont-Saint-Martin Groupe SOS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SL Vivalia Ar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de Réhabilitation du Château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Espace réservé du contenu 2" descr=""/>
          <p:cNvPicPr/>
          <p:nvPr/>
        </p:nvPicPr>
        <p:blipFill>
          <a:blip r:embed="rId1"/>
          <a:stretch/>
        </p:blipFill>
        <p:spPr>
          <a:xfrm>
            <a:off x="6095880" y="1773360"/>
            <a:ext cx="5502240" cy="4692600"/>
          </a:xfrm>
          <a:prstGeom prst="rect">
            <a:avLst/>
          </a:prstGeom>
          <a:ln w="0">
            <a:noFill/>
          </a:ln>
        </p:spPr>
      </p:pic>
      <p:sp>
        <p:nvSpPr>
          <p:cNvPr id="318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3573-0E46-49D1-A1EA-75A7485C99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Les axes de développement du projet de coopération sanitair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38080" y="1533600"/>
            <a:ext cx="10515600" cy="511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LLABORATION INTERHOSPITALIE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ZOAST LUXLOR et AMU TRANSFRONTALI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OLLABORATION ENTRE ARLON ET MONT-SAINT-MARTIN depuis 1/7/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IRM, urologie, gastroentérologie, pédiatrie, réadaptation cardio-vasculaire, dialyse,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VENTION RADIOTHERAPIE ESCH-M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VENTION COVID « LONG » ARLON-COLP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’ACCES AU CAISSON HYPERBARE DU CHEM (service national d’oxygénothérapie GD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BILITE DES PROFESSIONNELS DE SA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ciliter la mobilité et l’exercice de la pratique médicale dans les différents  établissements (ex praticiens d’Arlon à M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BILITE DES PATI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spositif ZOAST : accès aux soins transfrontaliers dans les établissements repris à la convention sans obstacle juridique, administratif ni financier (application des règlements 883/2004 et 987/200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0298-B9C4-4FFF-A7CD-87C7E751094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</a:rPr>
              <a:t>Schwerpunkte des Ausbaus des Kooperationsprojekts im Gesundheitswese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533600"/>
            <a:ext cx="10515600" cy="511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ZUSAMMENARBEIT ZWISCHEN DEN KRANKENHÄUSER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OAST LUXLOR und GRENZÜBERSCHREITENDE RETTUNGSDIENS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Zusammenarbeit zwischen ARLON und MONT-SAINT-MARTIN seit dem 1.7.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MRT, Urologie, Gastroenterologie, Pädiatrie, kardiovaskuläre Rehabilitation, Dialyse,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REINBARUNG „STRAHLENTHERAPIE“ ESCH-M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REINBARUNG „LONG-COVID“ ARLON-COLP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UGANG ZUR DEKOMPRESSIONSKAMMER DES CHEM (nationale Einrichtung für Sauerstofftherapie des Großherzogtums Luxembur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OBILITÄT DER FACHKRÄFTE DES GESUNDHEITSWES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örderung der Mobilität und Ausübung der Gesundheitsberufe in den verschiedenen Einrichtungen (z.B. Einsatz von Heilpraktikern aus Arlon in M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ATIENTENMOBILITÄ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OAST-System: Zugang zur grenzüberschreitenden Gesundheitsversorgung in den in der Vereinbarung aufgeführten Einrichtungen, ohne rechtliche, administrative und finanzielle Hürden (Umsetzung der Verordnungen 883/2004 und 987/2009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15FC-7AE1-4067-8430-E7E0ED5DD1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6360" y="1914480"/>
            <a:ext cx="10744200" cy="27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0" rIns="0" tIns="19800" bIns="0" anchor="t">
            <a:noAutofit/>
          </a:bodyPr>
          <a:p>
            <a:pPr marL="3538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IE GRENZÜBERSCHREITENDE ZUSAMMENARBEIT IM GESUNDHEITSWESEN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object 3"/>
          <p:cNvSpPr/>
          <p:nvPr/>
        </p:nvSpPr>
        <p:spPr>
          <a:xfrm>
            <a:off x="685800" y="4943520"/>
            <a:ext cx="10744200" cy="145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Henri Lewalle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METZ, 28. APRIL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ec.europa.eu/regional_policy/sources/cooperate/crossborder/cbc_health/cbc_health_fr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Image 4" descr=""/>
          <p:cNvPicPr/>
          <p:nvPr/>
        </p:nvPicPr>
        <p:blipFill>
          <a:blip r:embed="rId2"/>
          <a:stretch/>
        </p:blipFill>
        <p:spPr>
          <a:xfrm>
            <a:off x="3803760" y="0"/>
            <a:ext cx="4495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8080" y="641520"/>
            <a:ext cx="10515600" cy="55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SPOSITIF ZOAST SUR LE TERRITOIRE TRINATIONAL DEF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ême dispositif que la ZOAST LUX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tension au territoire luxembourgeois des cantons de Capellen, Redange et E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tension de l’offre de soins aux établissements du CHEM et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PORTUN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TERRITOIRE HISTORIQUE DU 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ACCORDS-CADRES DE COOPERATION SANITA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CONTEXTE DE LA PANDE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PRESIDENCE FRANCAISE DE l’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BF0-2945-452E-979D-0BFDBDEE7B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641520"/>
            <a:ext cx="10515600" cy="55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OAST-SYSTEM IM FESTGELEGTEN TRINATIONALEN GEB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leiches System wie ZOAST LUX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sweitung auf die luxemburgischen Kantone Capellen, Redange und E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sweitung des Versorgungsangebots auf die Krankenhäuser CHEM und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ÜNSTIGE GELEGENH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ISTORISCHES GEBIET DES EUROPÄISCHEN ENTWICKLUNGSP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AHMENABKOMMEN ÜBER DIE ZUSAMMENARBEIT IM GESUNDHEITSWE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ANDEMIEBEDINGTER K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RANZÖSISCHE EU-RATSPRÄSIDENTSCH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286E-B6A6-4ED5-9902-9B4DF00F6C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bject 2"/>
          <p:cNvSpPr/>
          <p:nvPr/>
        </p:nvSpPr>
        <p:spPr>
          <a:xfrm>
            <a:off x="4657680" y="766800"/>
            <a:ext cx="6696000" cy="5557680"/>
          </a:xfrm>
          <a:custGeom>
            <a:avLst/>
            <a:gdLst/>
            <a:ahLst/>
            <a:rect l="l" t="t" r="r" b="b"/>
            <a:pathLst>
              <a:path w="5862320" h="5476240">
                <a:moveTo>
                  <a:pt x="0" y="5476240"/>
                </a:moveTo>
                <a:lnTo>
                  <a:pt x="5862320" y="5476240"/>
                </a:lnTo>
                <a:lnTo>
                  <a:pt x="5862320" y="0"/>
                </a:lnTo>
                <a:lnTo>
                  <a:pt x="0" y="0"/>
                </a:lnTo>
                <a:lnTo>
                  <a:pt x="0" y="54762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ject 3" descr=""/>
          <p:cNvPicPr/>
          <p:nvPr/>
        </p:nvPicPr>
        <p:blipFill>
          <a:blip r:embed="rId1"/>
          <a:stretch/>
        </p:blipFill>
        <p:spPr>
          <a:xfrm>
            <a:off x="4627440" y="785880"/>
            <a:ext cx="6669360" cy="507204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4" descr=""/>
          <p:cNvPicPr/>
          <p:nvPr/>
        </p:nvPicPr>
        <p:blipFill>
          <a:blip r:embed="rId2"/>
          <a:stretch/>
        </p:blipFill>
        <p:spPr>
          <a:xfrm>
            <a:off x="457200" y="766800"/>
            <a:ext cx="41101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bject 2"/>
          <p:cNvSpPr/>
          <p:nvPr/>
        </p:nvSpPr>
        <p:spPr>
          <a:xfrm>
            <a:off x="4657680" y="766800"/>
            <a:ext cx="6696000" cy="555768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5557680"/>
              <a:gd name="textAreaBottom" fmla="*/ 5557680 h 5557680"/>
            </a:gdLst>
            <a:ahLst/>
            <a:rect l="textAreaLeft" t="textAreaTop" r="textAreaRight" b="textAreaBottom"/>
            <a:pathLst>
              <a:path w="5862320" h="5476240">
                <a:moveTo>
                  <a:pt x="0" y="5476240"/>
                </a:moveTo>
                <a:lnTo>
                  <a:pt x="5862320" y="5476240"/>
                </a:lnTo>
                <a:lnTo>
                  <a:pt x="5862320" y="0"/>
                </a:lnTo>
                <a:lnTo>
                  <a:pt x="0" y="0"/>
                </a:lnTo>
                <a:lnTo>
                  <a:pt x="0" y="54762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object 3" descr=""/>
          <p:cNvPicPr/>
          <p:nvPr/>
        </p:nvPicPr>
        <p:blipFill>
          <a:blip r:embed="rId1"/>
          <a:stretch/>
        </p:blipFill>
        <p:spPr>
          <a:xfrm>
            <a:off x="4627440" y="785880"/>
            <a:ext cx="6583320" cy="508464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4" descr=""/>
          <p:cNvPicPr/>
          <p:nvPr/>
        </p:nvPicPr>
        <p:blipFill>
          <a:blip r:embed="rId2"/>
          <a:stretch/>
        </p:blipFill>
        <p:spPr>
          <a:xfrm>
            <a:off x="457200" y="766800"/>
            <a:ext cx="41101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object 2" descr=""/>
          <p:cNvPicPr/>
          <p:nvPr/>
        </p:nvPicPr>
        <p:blipFill>
          <a:blip r:embed="rId1"/>
          <a:stretch/>
        </p:blipFill>
        <p:spPr>
          <a:xfrm>
            <a:off x="914400" y="1311120"/>
            <a:ext cx="9982080" cy="4754880"/>
          </a:xfrm>
          <a:prstGeom prst="rect">
            <a:avLst/>
          </a:prstGeom>
          <a:ln w="0">
            <a:noFill/>
          </a:ln>
        </p:spPr>
      </p:pic>
      <p:sp>
        <p:nvSpPr>
          <p:cNvPr id="259" name="object 3"/>
          <p:cNvSpPr/>
          <p:nvPr/>
        </p:nvSpPr>
        <p:spPr>
          <a:xfrm>
            <a:off x="3008160" y="1776240"/>
            <a:ext cx="212724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  <a:ea typeface="Calibri"/>
              </a:rPr>
              <a:t>Renforcer la coopération  et les écha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bject 4"/>
          <p:cNvSpPr/>
          <p:nvPr/>
        </p:nvSpPr>
        <p:spPr>
          <a:xfrm>
            <a:off x="2978280" y="2725560"/>
            <a:ext cx="23889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Améliorer le processus législ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bject 5"/>
          <p:cNvSpPr/>
          <p:nvPr/>
        </p:nvSpPr>
        <p:spPr>
          <a:xfrm>
            <a:off x="3008160" y="3575160"/>
            <a:ext cx="24307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Soutenir l'emploi transfrontal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bject 6"/>
          <p:cNvSpPr/>
          <p:nvPr/>
        </p:nvSpPr>
        <p:spPr>
          <a:xfrm>
            <a:off x="3054240" y="4417920"/>
            <a:ext cx="224640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Promouvoir le multilinguisme  transfrontal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bject 7"/>
          <p:cNvSpPr/>
          <p:nvPr/>
        </p:nvSpPr>
        <p:spPr>
          <a:xfrm>
            <a:off x="2978280" y="5257800"/>
            <a:ext cx="284940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aciliter l'accessibilité transfrontaliè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bject 8"/>
          <p:cNvSpPr/>
          <p:nvPr/>
        </p:nvSpPr>
        <p:spPr>
          <a:xfrm>
            <a:off x="7310520" y="1811160"/>
            <a:ext cx="253044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Promouvoir une administration  publique transfrontalière en lig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bject 9"/>
          <p:cNvSpPr/>
          <p:nvPr/>
        </p:nvSpPr>
        <p:spPr>
          <a:xfrm>
            <a:off x="7310520" y="2616120"/>
            <a:ext cx="260964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urnir informations et conseils de  quali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bject 10"/>
          <p:cNvSpPr/>
          <p:nvPr/>
        </p:nvSpPr>
        <p:spPr>
          <a:xfrm>
            <a:off x="7316640" y="3367080"/>
            <a:ext cx="314964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NCOURAGER LA MISE EN COMM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object 11"/>
          <p:cNvSpPr/>
          <p:nvPr/>
        </p:nvSpPr>
        <p:spPr>
          <a:xfrm>
            <a:off x="7316640" y="3610080"/>
            <a:ext cx="298800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DES ÉTABLISSEMENTS DE SOIN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bject 12"/>
          <p:cNvSpPr/>
          <p:nvPr/>
        </p:nvSpPr>
        <p:spPr>
          <a:xfrm>
            <a:off x="7316640" y="3854520"/>
            <a:ext cx="5619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object 13"/>
          <p:cNvSpPr/>
          <p:nvPr/>
        </p:nvSpPr>
        <p:spPr>
          <a:xfrm>
            <a:off x="7331040" y="4237200"/>
            <a:ext cx="25941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Tenir compte du cadre juridique et  financier pour la coopération  transfrontaliè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bject 14"/>
          <p:cNvSpPr/>
          <p:nvPr/>
        </p:nvSpPr>
        <p:spPr>
          <a:xfrm>
            <a:off x="7332840" y="5121360"/>
            <a:ext cx="2755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Démontrer l’interaction  transfrontalière pour éclairer la prise  de déci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0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       </a:t>
            </a: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 </a:t>
            </a: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LE PROJET INTERREG V GR COS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1485720"/>
            <a:ext cx="10515600" cy="523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RÉER UN OBSERVATOIRE DE LA SANTÉ GRANDREG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ÉVELOPPER LES COOPÉRATIONS TRANSFRONTALIÈ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CCORDS-CADRES = TRAITÉS SANITAIRES ENTRE LES ÉT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ÉFINIR DES TERRITOIRES DE SANTE TRANSFRONTALIERS (type ZOAST) DANS LES ESPACES FRONTALIERS DE LA GRANDE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ÉVELOPPER UNE GESTION INFORMATISÉE DES FLUX FINANCIERS POUR LES SOINS TRANSFRONTA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AIDE MÉDICALE URGENTE : GÉNÉRALISER LA PRISE EN CHARGE TRANSFRONTALIÈRE (Type MSM-ARL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RENFORCER LA COOPÉRATION MSM-ARLON-COLPACH-CHEM (PED santé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INSTAURER UNE MOBILITÉ AISÉE DES PROFESSIONNELS DE SANTÉ DANS LES ZOAST ET DÉVELOPPER L’ÉCHANGE DE BONNES PRAT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)</a:t>
            </a:r>
            <a:fld id="{02E9C1D9-E71D-4501-B250-C717A3836E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0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PROJEKT INTERREG V GR COS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485720"/>
            <a:ext cx="10515600" cy="523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EINRICHTUNG EINER BEOBACHTUNGSSTELLE FÜR DAS GROSSREGIONALE GESUNDHEITSWE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AUSBAU DER GRENZÜBERSCHREITENDEN KOOPERAT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RAHMENABKOMMEN = ZWISCHENSTAATLICHE ABKOMMEN IM GESUNDHEITSBEREI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DEFINITION GRENZÜBERSCHREITENDER GESUNDHEITSGEBIETE (NACH DEM VORBILD DER ZOAST) IN DEN GRENZGEBIETEN DER GROSSREG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ENTWICKLUNG EINES IT-SYSTEMS ZUR FINANZIELLEN ABWICKLUNG DER GRENZÜBERSCHREITENDEN GESUNDHEITSVERSORGU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EDIZINISCHE NOTVERSORGUNG: VERALLGEMEINERUNG DER GRENZÜBERSCHREITENDEN VERSORGUNG (NACH DEM VORBILD MSM-AR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AUSBAU DER KOOPERATION MSM-ARLON-COLPACH-CHEM (PED GESUNDHE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VEREINFACHUNG DER MOBILITÄT DER FACHKRÄFTE DES GESUNDHEITSWESENS IN DEN ZOAST UND FÖRDERUNG DES AUSTAUSCHS VON BEST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)</a:t>
            </a:r>
            <a:fld id="{9BC273D7-1A0C-40F4-BFC5-8CA97F3CCC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2674440"/>
            <a:ext cx="9144000" cy="26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0" spc="-1" strike="noStrike">
                <a:solidFill>
                  <a:srgbClr val="000000"/>
                </a:solidFill>
                <a:latin typeface="Calibri Light"/>
              </a:rPr>
              <a:t>Projet transfrontalier de coopération sanitaire transfrontalière « LUXLOR II »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523880" y="5694120"/>
            <a:ext cx="9144000" cy="63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METZ 28 AVRIL 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Image 4" descr=""/>
          <p:cNvPicPr/>
          <p:nvPr/>
        </p:nvPicPr>
        <p:blipFill>
          <a:blip r:embed="rId1"/>
          <a:stretch/>
        </p:blipFill>
        <p:spPr>
          <a:xfrm>
            <a:off x="3848040" y="177840"/>
            <a:ext cx="4496040" cy="2041560"/>
          </a:xfrm>
          <a:prstGeom prst="rect">
            <a:avLst/>
          </a:prstGeom>
          <a:ln w="0">
            <a:noFill/>
          </a:ln>
        </p:spPr>
      </p:pic>
      <p:sp>
        <p:nvSpPr>
          <p:cNvPr id="28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BFB-8173-47A6-95C5-C5C99A16D5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2674440"/>
            <a:ext cx="9144000" cy="26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Calibri Light"/>
              </a:rPr>
              <a:t>Grenzüberschreitendes Projekt Grenzüberschreitende Zusammenarbeit im Gesundheitswese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Calibri Light"/>
              </a:rPr>
              <a:t>„LUXLOR II“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523880" y="5694120"/>
            <a:ext cx="9144000" cy="63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METZ, 28. APRIL 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Image 4" descr=""/>
          <p:cNvPicPr/>
          <p:nvPr/>
        </p:nvPicPr>
        <p:blipFill>
          <a:blip r:embed="rId1"/>
          <a:stretch/>
        </p:blipFill>
        <p:spPr>
          <a:xfrm>
            <a:off x="3848040" y="177840"/>
            <a:ext cx="4496040" cy="2041560"/>
          </a:xfrm>
          <a:prstGeom prst="rect">
            <a:avLst/>
          </a:prstGeom>
          <a:ln w="0">
            <a:noFill/>
          </a:ln>
        </p:spPr>
      </p:pic>
      <p:sp>
        <p:nvSpPr>
          <p:cNvPr id="28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3867-A8C9-49DC-9497-E7B2236D11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6T09:40:07Z</dcterms:created>
  <dc:creator>Henri Lewalle</dc:creator>
  <dc:description/>
  <dc:language>en-US</dc:language>
  <cp:lastModifiedBy>Henri Lewalle</cp:lastModifiedBy>
  <dcterms:modified xsi:type="dcterms:W3CDTF">2022-04-26T09:41:04Z</dcterms:modified>
  <cp:revision>1</cp:revision>
  <dc:subject/>
  <dc:title>            LA COOPERATION SANITAIRE                TRANSFRONTALIÈRE </dc:title>
</cp:coreProperties>
</file>